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BF9-9370-4EEC-950D-A9DDEC74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19FB-5BBB-4025-9A69-65A3B917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2D71-6269-410F-94AB-8F0602883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6630-4AC8-4408-AEA2-2EA8A6C8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B5B-7932-46FA-8998-471212AF1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7016-E991-41D9-ACCA-C1907046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33E-3A54-498F-BD63-5852CBEE4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BE0A-C7DA-4788-BB6E-6BADA6D7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706-7F35-44C4-8D5D-54BB00D2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10F3-AB5D-45F3-9DBF-1EF03F3C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73C5-D443-40D4-84C2-1D699F5D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8EC-EE44-4325-809C-FF429ECF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52F-1A15-4FA4-AE87-8E301218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5473-640A-49DF-8F2A-0AC7C70E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DAE-9CA9-4FAF-A1A7-7085A76D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826-E006-452B-9046-05DE1606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comes up with ques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1B22-257E-4BDE-AB8C-AECD6664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B21-DA9C-47E8-91D6-88D6E4900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1002-A513-4EF5-B1F5-13343ADB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2C6-4048-49D7-BC51-FFD5DD1F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358-6B96-4DA3-9A8E-C3A1B754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343-E45C-4927-B67C-2D299F13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401-C45A-4844-94B2-0A332430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658-8D9A-45A8-B3FB-2EBBF086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89C-46C0-44E3-AF30-B737368B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252-0814-4958-973E-507BDCF3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696-CBE4-4B40-B538-BDA118A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B93-2C43-46CC-B10A-8124599A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1DD-5095-4772-9795-BF444AD3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EF8-0A4A-4C41-B19D-45C9E8A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3B3-ED51-4ABD-A9C1-3C7709A6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45E-9B31-4A00-9408-91447FEB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6DF-802C-45C5-AAB6-B7240032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D56-5CB6-47BC-BFBD-E86EC17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FC3-981F-4C77-92D0-CC4616B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197-FFAD-4FE6-B0DB-FCF2016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FBC-A970-40B4-A542-97C462C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538-003A-4A15-A97D-884D3D0B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7.xml"/><Relationship Id="rId11" Type="http://schemas.openxmlformats.org/officeDocument/2006/relationships/slide" Target="slide16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>
            <a:hlinkClick r:id="rId1" action="ppaction://hlinksldjump"/>
          </p:cNvPr>
          <p:cNvSpPr/>
          <p:nvPr/>
        </p:nvSpPr>
        <p:spPr>
          <a:xfrm>
            <a:off x="38088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2" action="ppaction://hlinksldjump"/>
          </p:cNvPr>
          <p:cNvSpPr/>
          <p:nvPr/>
        </p:nvSpPr>
        <p:spPr>
          <a:xfrm>
            <a:off x="38088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3" action="ppaction://hlinksldjump"/>
          </p:cNvPr>
          <p:cNvSpPr/>
          <p:nvPr/>
        </p:nvSpPr>
        <p:spPr>
          <a:xfrm>
            <a:off x="380880" y="3403440"/>
            <a:ext cx="1035000" cy="57816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4" action="ppaction://hlinksldjump"/>
          </p:cNvPr>
          <p:cNvSpPr/>
          <p:nvPr/>
        </p:nvSpPr>
        <p:spPr>
          <a:xfrm>
            <a:off x="380880" y="2330280"/>
            <a:ext cx="1035000" cy="57816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5" action="ppaction://hlinksldjump"/>
          </p:cNvPr>
          <p:cNvSpPr/>
          <p:nvPr/>
        </p:nvSpPr>
        <p:spPr>
          <a:xfrm>
            <a:off x="38088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>
            <a:hlinkClick r:id="rId6" action="ppaction://hlinksldjump"/>
          </p:cNvPr>
          <p:cNvSpPr/>
          <p:nvPr/>
        </p:nvSpPr>
        <p:spPr>
          <a:xfrm>
            <a:off x="274320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>
            <a:hlinkClick r:id="rId7" action="ppaction://hlinksldjump"/>
          </p:cNvPr>
          <p:cNvSpPr/>
          <p:nvPr/>
        </p:nvSpPr>
        <p:spPr>
          <a:xfrm>
            <a:off x="274320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8" action="ppaction://hlinksldjump"/>
          </p:cNvPr>
          <p:cNvSpPr/>
          <p:nvPr/>
        </p:nvSpPr>
        <p:spPr>
          <a:xfrm>
            <a:off x="2743200" y="34290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9" action="ppaction://hlinksldjump"/>
          </p:cNvPr>
          <p:cNvSpPr/>
          <p:nvPr/>
        </p:nvSpPr>
        <p:spPr>
          <a:xfrm>
            <a:off x="274320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7">
            <a:hlinkClick r:id="rId10" action="ppaction://hlinksldjump"/>
          </p:cNvPr>
          <p:cNvSpPr/>
          <p:nvPr/>
        </p:nvSpPr>
        <p:spPr>
          <a:xfrm>
            <a:off x="274320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380880" y="425520"/>
            <a:ext cx="106704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2743200" y="380880"/>
            <a:ext cx="106668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ss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5">
            <a:hlinkClick r:id="rId11" action="ppaction://hlinksldjump"/>
          </p:cNvPr>
          <p:cNvSpPr/>
          <p:nvPr/>
        </p:nvSpPr>
        <p:spPr>
          <a:xfrm>
            <a:off x="495288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6">
            <a:hlinkClick r:id="rId12" action="ppaction://hlinksldjump"/>
          </p:cNvPr>
          <p:cNvSpPr/>
          <p:nvPr/>
        </p:nvSpPr>
        <p:spPr>
          <a:xfrm>
            <a:off x="495288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7">
            <a:hlinkClick r:id="rId13" action="ppaction://hlinksldjump"/>
          </p:cNvPr>
          <p:cNvSpPr/>
          <p:nvPr/>
        </p:nvSpPr>
        <p:spPr>
          <a:xfrm>
            <a:off x="4952880" y="33526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8">
            <a:hlinkClick r:id="rId14" action="ppaction://hlinksldjump"/>
          </p:cNvPr>
          <p:cNvSpPr/>
          <p:nvPr/>
        </p:nvSpPr>
        <p:spPr>
          <a:xfrm>
            <a:off x="495288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9">
            <a:hlinkClick r:id="rId15" action="ppaction://hlinksldjump"/>
          </p:cNvPr>
          <p:cNvSpPr/>
          <p:nvPr/>
        </p:nvSpPr>
        <p:spPr>
          <a:xfrm>
            <a:off x="495288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7">
            <a:hlinkClick r:id="rId16" action="ppaction://hlinksldjump"/>
          </p:cNvPr>
          <p:cNvSpPr/>
          <p:nvPr/>
        </p:nvSpPr>
        <p:spPr>
          <a:xfrm>
            <a:off x="731520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8">
            <a:hlinkClick r:id="rId17" action="ppaction://hlinksldjump"/>
          </p:cNvPr>
          <p:cNvSpPr/>
          <p:nvPr/>
        </p:nvSpPr>
        <p:spPr>
          <a:xfrm>
            <a:off x="731520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9">
            <a:hlinkClick r:id="rId18" action="ppaction://hlinksldjump"/>
          </p:cNvPr>
          <p:cNvSpPr/>
          <p:nvPr/>
        </p:nvSpPr>
        <p:spPr>
          <a:xfrm>
            <a:off x="7315200" y="3276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0">
            <a:hlinkClick r:id="rId19" action="ppaction://hlinksldjump"/>
          </p:cNvPr>
          <p:cNvSpPr/>
          <p:nvPr/>
        </p:nvSpPr>
        <p:spPr>
          <a:xfrm>
            <a:off x="731520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1">
            <a:hlinkClick r:id="rId20" action="ppaction://hlinksldjump"/>
          </p:cNvPr>
          <p:cNvSpPr/>
          <p:nvPr/>
        </p:nvSpPr>
        <p:spPr>
          <a:xfrm>
            <a:off x="731520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7"/>
          <p:cNvSpPr/>
          <p:nvPr/>
        </p:nvSpPr>
        <p:spPr>
          <a:xfrm>
            <a:off x="4876920" y="380880"/>
            <a:ext cx="106668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"/>
          <p:cNvSpPr/>
          <p:nvPr/>
        </p:nvSpPr>
        <p:spPr>
          <a:xfrm>
            <a:off x="7238880" y="380880"/>
            <a:ext cx="1152720" cy="7066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75"/>
          <p:cNvSpPr txBox="1"/>
          <p:nvPr/>
        </p:nvSpPr>
        <p:spPr>
          <a:xfrm>
            <a:off x="380880" y="6019920"/>
            <a:ext cx="8286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comic"/>
              </a:rPr>
              <a:t>Science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atin typeface="comic"/>
              <a:ea typeface="comic"/>
            </a:endParaRPr>
          </a:p>
        </p:txBody>
      </p:sp>
      <p:sp>
        <p:nvSpPr>
          <p:cNvPr id="73" name="Text Box 1031">
            <a:hlinkClick r:id="rId21" action="ppaction://hlinksldjump"/>
          </p:cNvPr>
          <p:cNvSpPr/>
          <p:nvPr/>
        </p:nvSpPr>
        <p:spPr>
          <a:xfrm>
            <a:off x="8610480" y="6507000"/>
            <a:ext cx="533520" cy="276480"/>
          </a:xfrm>
          <a:prstGeom prst="rect">
            <a:avLst/>
          </a:prstGeom>
          <a:solidFill>
            <a:srgbClr val="b2b2b2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7"/>
          <p:cNvSpPr/>
          <p:nvPr/>
        </p:nvSpPr>
        <p:spPr>
          <a:xfrm>
            <a:off x="685800" y="36576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es evolved over time and eventually became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49"/>
          <p:cNvSpPr/>
          <p:nvPr/>
        </p:nvSpPr>
        <p:spPr>
          <a:xfrm>
            <a:off x="380880" y="10666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WO things happened to this species over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50" descr="A fossil record showing gradual evolution"/>
          <p:cNvPicPr/>
          <p:nvPr/>
        </p:nvPicPr>
        <p:blipFill>
          <a:blip r:embed="rId1"/>
          <a:srcRect l="31911" t="0" r="0" b="22966"/>
          <a:stretch/>
        </p:blipFill>
        <p:spPr>
          <a:xfrm>
            <a:off x="4356000" y="907920"/>
            <a:ext cx="45975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026"/>
          <p:cNvSpPr/>
          <p:nvPr/>
        </p:nvSpPr>
        <p:spPr>
          <a:xfrm>
            <a:off x="755640" y="1996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two reasons an organism might go extin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7"/>
          <p:cNvSpPr/>
          <p:nvPr/>
        </p:nvSpPr>
        <p:spPr>
          <a:xfrm>
            <a:off x="826920" y="386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ate change, natural disaster, over hunting, habitat is destroyed, disea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9"/>
          <p:cNvSpPr/>
          <p:nvPr/>
        </p:nvSpPr>
        <p:spPr>
          <a:xfrm>
            <a:off x="685800" y="32767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0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921320" y="1752480"/>
            <a:ext cx="56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wo things must an organism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consider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1116000" y="39337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29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0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684360" y="1989000"/>
            <a:ext cx="79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n example where the most fit organism is NOT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rong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st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755640" y="38862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s will va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The stalk-eyed bug - the longest eye stalks is best able to find a mate, but is not strongest or fas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03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Rectangle 103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WordArt 1032"/>
            <p:cNvSpPr txBox="1"/>
            <p:nvPr/>
          </p:nvSpPr>
          <p:spPr>
            <a:xfrm>
              <a:off x="457200" y="457200"/>
              <a:ext cx="8153280" cy="571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Bernard MT Condensed"/>
                </a:rPr>
                <a:t>DAILY</a:t>
              </a:r>
              <a:endPara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Bernard MT Condensed"/>
                <a:ea typeface="Bernard MT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Bernard MT Condensed"/>
                </a:rPr>
                <a:t>DOUBLE</a:t>
              </a:r>
              <a:endParaRPr b="0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Bernard MT Condensed"/>
                <a:ea typeface="Bernard MT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611280" y="1557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ne kind of variation seen in this pop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759120" cy="2158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684360" y="479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cob length, kernel size, thicknes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26"/>
          <p:cNvSpPr/>
          <p:nvPr/>
        </p:nvSpPr>
        <p:spPr>
          <a:xfrm>
            <a:off x="1828800" y="2209680"/>
            <a:ext cx="59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is natural selection not rand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826920" y="4149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ith poor traits are less likely to survive because of those bad traits, not because of random ch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29"/>
          <p:cNvSpPr/>
          <p:nvPr/>
        </p:nvSpPr>
        <p:spPr>
          <a:xfrm>
            <a:off x="68580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09480" y="19969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85800" y="29718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8124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762120" y="3124080"/>
            <a:ext cx="7848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is when an organism has more offspring than will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ffspring that have the better traits will be more likely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55640" y="1557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in how overproduction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8436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ful jaws, sharp teeth, ability to swim, coloration, eye loc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3520" y="152388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ne adaptation that this organism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3130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84360" y="33577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2276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Extinc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Box 4" descr=""/>
          <p:cNvPicPr/>
          <p:nvPr/>
        </p:nvPicPr>
        <p:blipFill>
          <a:blip r:embed="rId1"/>
          <a:stretch/>
        </p:blipFill>
        <p:spPr>
          <a:xfrm>
            <a:off x="1542960" y="4145040"/>
            <a:ext cx="58024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10040" y="347760"/>
            <a:ext cx="51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bula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42920" y="4149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il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82692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imeline of life on Earth created by using fossils is known as the _______ 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“variation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5640" y="41497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 in traits among members of a spec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makes organisms u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38080" y="3505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5564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es variation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5800" y="3657600"/>
            <a:ext cx="79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genes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sms inherit a unique set of genes from their parents and mutations also lead to dif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425520" y="1828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0" y="407664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258920" y="1844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in how natural selection acts upon existing variation in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09480" y="365760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organisms are born the same – this is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ith good traits are more likely to live – this is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5320" y="2819160"/>
            <a:ext cx="3047760" cy="990360"/>
          </a:xfrm>
          <a:prstGeom prst="rect">
            <a:avLst/>
          </a:prstGeom>
          <a:solidFill>
            <a:srgbClr val="808080"/>
          </a:solidFill>
          <a:ln w="7632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Jeopardy - ?$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371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y both result in changes (evolution) based on who survives and re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S = Nature “choo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= Humans cho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457200" y="3581280"/>
            <a:ext cx="8305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26920" y="1773360"/>
            <a:ext cx="777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Natural Selection and Artificial Selection the s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they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050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51"/>
          <p:cNvSpPr/>
          <p:nvPr/>
        </p:nvSpPr>
        <p:spPr>
          <a:xfrm>
            <a:off x="3598200" y="199872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Speci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52"/>
          <p:cNvSpPr/>
          <p:nvPr/>
        </p:nvSpPr>
        <p:spPr>
          <a:xfrm>
            <a:off x="533160" y="3809880"/>
            <a:ext cx="785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oup of organisms that are closely related and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e to produce fertile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05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057">
            <a:hlinkClick r:id="" action="ppaction://hlinkshowjump?jump=firstslide"/>
          </p:cNvPr>
          <p:cNvSpPr/>
          <p:nvPr/>
        </p:nvSpPr>
        <p:spPr>
          <a:xfrm>
            <a:off x="3352680" y="5943600"/>
            <a:ext cx="2432160" cy="6714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051"/>
          <p:cNvSpPr/>
          <p:nvPr/>
        </p:nvSpPr>
        <p:spPr>
          <a:xfrm>
            <a:off x="762120" y="19051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Adap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52"/>
          <p:cNvSpPr/>
          <p:nvPr/>
        </p:nvSpPr>
        <p:spPr>
          <a:xfrm>
            <a:off x="638640" y="3645000"/>
            <a:ext cx="801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t that helps an organism to survive and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particular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053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5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055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7"/>
          <p:cNvSpPr/>
          <p:nvPr/>
        </p:nvSpPr>
        <p:spPr>
          <a:xfrm>
            <a:off x="448632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1631880" y="365760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dual change in a species over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1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2"/>
          <p:cNvSpPr/>
          <p:nvPr/>
        </p:nvSpPr>
        <p:spPr>
          <a:xfrm>
            <a:off x="46800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37"/>
          <p:cNvSpPr/>
          <p:nvPr/>
        </p:nvSpPr>
        <p:spPr>
          <a:xfrm>
            <a:off x="2057400" y="22096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Evolu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7"/>
          <p:cNvSpPr/>
          <p:nvPr/>
        </p:nvSpPr>
        <p:spPr>
          <a:xfrm>
            <a:off x="2283480" y="182880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Natural Sel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1066680" y="35812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 by which individuals that are better adapted to their environment survive and reproduce more successfull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1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371628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">
            <a:hlinkClick r:id="" action="ppaction://hlinkshowjump?jump=firstslide"/>
          </p:cNvPr>
          <p:cNvSpPr/>
          <p:nvPr/>
        </p:nvSpPr>
        <p:spPr>
          <a:xfrm>
            <a:off x="3995640" y="6021360"/>
            <a:ext cx="221004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685800" y="29718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908000" y="170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Fossi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95280" y="36576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ace or remains of an organism that lived long ago, most commonly preserved in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44956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ttom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down = older foss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68580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4388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how-fossils-formed"/>
          <p:cNvPicPr/>
          <p:nvPr/>
        </p:nvPicPr>
        <p:blipFill>
          <a:blip r:embed="rId1"/>
          <a:stretch/>
        </p:blipFill>
        <p:spPr>
          <a:xfrm>
            <a:off x="4876920" y="533520"/>
            <a:ext cx="3962160" cy="3848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457200" y="1219320"/>
            <a:ext cx="419112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fossil layer is the old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981080" y="3657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e dating, relative 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388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916360" y="2133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92360" y="14842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estimate the age of fossi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97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8:28:11Z</dcterms:created>
  <dc:creator>Bonnie Wright</dc:creator>
  <dc:description/>
  <dc:language>en-US</dc:language>
  <cp:lastModifiedBy>User</cp:lastModifiedBy>
  <cp:lastPrinted>2002-10-22T21:08:24Z</cp:lastPrinted>
  <dcterms:modified xsi:type="dcterms:W3CDTF">2014-03-26T13:18:20Z</dcterms:modified>
  <cp:revision>121</cp:revision>
  <dc:subject/>
  <dc:title>No Slide Title</dc:title>
</cp:coreProperties>
</file>